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1317"/>
        <c:axId val="14983741"/>
      </c:barChart>
      <c:catAx>
        <c:axId val="18661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83741"/>
        <c:crosses val="autoZero"/>
        <c:auto val="1"/>
        <c:lblAlgn val="ctr"/>
        <c:lblOffset val="100"/>
        <c:noMultiLvlLbl val="0"/>
      </c:catAx>
      <c:valAx>
        <c:axId val="14983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1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170-D8DA-4053-8B6E-6E17FD5F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D12-B3DD-4D48-87D6-3184A89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D45-C533-40AA-8AC6-7D4327F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D5C-8537-4090-8FDC-0DD6FC5C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52F-2B10-4E41-B6D0-437A51B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1BE-8576-4FCF-853F-F92BFA4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BF8-F868-417C-9D8C-76195AE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D66-95FD-4C4F-9497-EC459EE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986-F840-4A30-8918-C4191D7F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5E5-F016-4E8D-82B4-BD6E638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D71-F48B-4B92-BF7A-44BEA85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B39-E775-46CB-ADDC-FD05F98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3C91E-05AB-4937-9591-49856830C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