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3503"/>
        <c:axId val="91800956"/>
      </c:barChart>
      <c:catAx>
        <c:axId val="9533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00956"/>
        <c:crosses val="autoZero"/>
        <c:auto val="1"/>
        <c:lblAlgn val="ctr"/>
        <c:lblOffset val="100"/>
        <c:noMultiLvlLbl val="0"/>
      </c:catAx>
      <c:valAx>
        <c:axId val="91800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3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68C-FCD4-48CE-90DD-672CF0D0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916-6F79-4550-A18F-901E967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9AF-3EC9-4842-B65F-5C00B1A9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46E-0776-4327-BB5C-D07538E3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E13-3BF6-4DFB-820C-D8CA7049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B75-58FB-47CB-94D4-7475E205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684-E2F2-42CE-BCB3-61CC8EBC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735-FAB7-41E3-B91A-3F5F4C6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6E8-58E2-45A1-808A-2CA6F8E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A1B-AC62-4403-880E-837770A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EFA-2323-4D4B-9588-051AF58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9F9-D55C-4A27-AABE-0899912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35E2-C974-4558-A713-DD6D5835AE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