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74693"/>
        <c:axId val="89369376"/>
      </c:barChart>
      <c:catAx>
        <c:axId val="71474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9376"/>
        <c:crosses val="autoZero"/>
        <c:auto val="1"/>
        <c:lblAlgn val="ctr"/>
        <c:lblOffset val="100"/>
        <c:noMultiLvlLbl val="0"/>
      </c:catAx>
      <c:valAx>
        <c:axId val="89369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74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3E4-A81C-495F-95A5-8CEC26E7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430-4294-4EC3-AF37-987600F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680-575E-4788-83F4-B33912FF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822-F661-49D0-9A59-E717D5BD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88E-73FE-4C6E-973E-0B208216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102-57D6-49F0-8D77-C694C621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737-69CC-49E7-A5AF-B09C65DF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68A-DEB6-4129-B77E-5090F7C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8FA-92D2-400D-9CBB-F8651E3B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0AD-2C68-46AD-B295-0A7F633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E1D-3CA6-47E3-B303-18B1AB9E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C71-DB83-4392-AA88-E7E33D4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C959-FA36-4514-8DD4-73F0A7887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