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57278"/>
        <c:axId val="40566114"/>
      </c:barChart>
      <c:catAx>
        <c:axId val="51257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66114"/>
        <c:crosses val="autoZero"/>
        <c:auto val="1"/>
        <c:lblAlgn val="ctr"/>
        <c:lblOffset val="100"/>
        <c:noMultiLvlLbl val="0"/>
      </c:catAx>
      <c:valAx>
        <c:axId val="40566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7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CF4-47DF-4E5C-9650-DC39585D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80D-7A70-4FA0-BFBF-031DB218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FBF-EDC4-44A2-B6CA-31A530E0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B79-80A9-4F3F-997F-560B5C33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2B8-3DE0-4152-96B3-7EC44A3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A2C-0BF8-4E6B-B0F4-E6A642F0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8FA-3A42-4126-9295-2E1EA2F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7D6-E93F-460D-8E94-963EE86F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869-F500-4674-A6CE-EA8D152B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393-6D19-452D-8962-03C52CA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B8A-7B13-4DFB-8E79-61E281A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30E-C98E-4723-9885-71616EA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F922-9821-4406-9829-2CBDC93D7F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