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09442"/>
        <c:axId val="4162285"/>
      </c:barChart>
      <c:catAx>
        <c:axId val="68609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2285"/>
        <c:crosses val="autoZero"/>
        <c:auto val="1"/>
        <c:lblAlgn val="ctr"/>
        <c:lblOffset val="100"/>
        <c:noMultiLvlLbl val="0"/>
      </c:catAx>
      <c:valAx>
        <c:axId val="4162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09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366-3B2B-4FE2-9592-6561782B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B4A-5C0A-46D4-9D3A-5F1C7CE7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216-AFC0-4E48-878E-18309F4A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688-905B-4285-A616-5A06F8D2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F5E-8A51-4A1E-A2B9-93D5537C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981-99FB-49F8-AA0A-E8DBC9F6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47B-752E-4FF5-95A1-35D3D36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2CA-AF99-41A7-A230-CD5EAA8D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161-F864-46C8-83AD-E80FD10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101-3F05-4976-9B77-B2DD24B6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706-36AB-4A0C-A9CD-4339B0E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C59-6BB5-47AB-9EE8-3463232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F8016-40EB-45AE-96C3-2438E03C39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