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94730"/>
        <c:axId val="69750297"/>
      </c:barChart>
      <c:catAx>
        <c:axId val="79947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50297"/>
        <c:crosses val="autoZero"/>
        <c:auto val="1"/>
        <c:lblAlgn val="ctr"/>
        <c:lblOffset val="100"/>
        <c:noMultiLvlLbl val="0"/>
      </c:catAx>
      <c:valAx>
        <c:axId val="697502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947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5D57-EAAB-4A2C-82F6-475607ED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554B-B67A-4938-AA25-2F87B1D7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B61D-467C-48A1-AFD6-6A5DEF76A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1DB3-9560-4B28-B477-496AB05F1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097C-E9A8-4DA2-AD7D-9665E9A9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D5E4-7E5E-415B-A5AD-17F2EB10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E577-D961-4354-8362-CD158CF7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DDAD-4926-4ED3-8EF8-25DDDD2C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A198-9D33-4FBB-A7D3-14A1E3EF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5A94-245D-4268-BD65-2A6F25FC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81BD-B9B0-4384-89E3-F3128FE3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9D44-D71B-4887-8E91-EACBE701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8942F-5291-43C7-A3CB-D1F9752882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