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47622"/>
        <c:axId val="29545358"/>
      </c:barChart>
      <c:catAx>
        <c:axId val="99247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5358"/>
        <c:crosses val="autoZero"/>
        <c:auto val="1"/>
        <c:lblAlgn val="ctr"/>
        <c:lblOffset val="100"/>
        <c:noMultiLvlLbl val="0"/>
      </c:catAx>
      <c:valAx>
        <c:axId val="29545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47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EFE-1694-4464-A419-8FB218D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98B-4F98-4FEB-88E0-33D31321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2DA-4740-497F-B9BF-52C4E8D1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944-BC73-4BAB-B1D8-2A874790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90F-5905-4B1D-81BC-3ACE3D8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34E-9B3F-4468-890B-43CDFCC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B30-CB94-4738-84A0-E81E7E01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2C5-7DA9-4953-91BA-38E36CA1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BC7-DC66-4A2D-AFE2-207566D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6B2-3AD6-44C6-9EC4-384D760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F28-589F-419A-BF8A-CE22E6D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9C9-F9A7-43D0-BB30-BC12493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36611-57CA-4ABD-88B7-2FBB713F3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