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420592"/>
        <c:axId val="24372743"/>
      </c:barChart>
      <c:catAx>
        <c:axId val="634205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72743"/>
        <c:crosses val="autoZero"/>
        <c:auto val="1"/>
        <c:lblAlgn val="ctr"/>
        <c:lblOffset val="100"/>
        <c:noMultiLvlLbl val="0"/>
      </c:catAx>
      <c:valAx>
        <c:axId val="243727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205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8393-6CD9-479E-9A36-0C773ECDB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4A7A-743E-46F0-9471-E4B4C6FC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A7F9-E342-4875-8DBB-106F7F981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1004-1BD1-4670-A655-8697FBEF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DD47-2CFE-425D-B564-ABF20D9C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68A6-CC76-4492-976F-F3391F1F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49D8-C7FE-4765-B115-6A539E76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819F-7193-4AD6-BE38-D87F05EC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EC8E-A227-454E-B8BD-D987FD5D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9650-5FA1-4ED6-9DBC-95576ABA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703D-3EED-4EA1-98DB-7290842D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0A86-84A3-4151-9FCE-259319B6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BF124-ECC4-42D0-8460-90258A9399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