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61961"/>
        <c:axId val="17439997"/>
      </c:barChart>
      <c:catAx>
        <c:axId val="35061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39997"/>
        <c:crosses val="autoZero"/>
        <c:auto val="1"/>
        <c:lblAlgn val="ctr"/>
        <c:lblOffset val="100"/>
        <c:noMultiLvlLbl val="0"/>
      </c:catAx>
      <c:valAx>
        <c:axId val="17439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61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B35-1C86-4247-AC4E-D51EC591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18A-B89B-4FA1-91FC-128E89E8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238-D5FA-473C-B4ED-9C01AF0A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49D-34A4-4F3B-B63B-943C0061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43F-6D8B-49DB-B272-EAD19972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D6F-FEEB-454D-9096-A0FC7506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207-1D32-4E11-9999-57303BE5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4F2-FB90-47EA-8FA3-5565DA6A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708-4449-4E02-AB38-38C20ADE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9F7-B6BD-4206-9E0D-2CED3164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2C9-16A4-4A4A-855A-DAD4DEBF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750-D30A-41FB-80D7-53B73DD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4EDC2-5764-48F6-9680-A2239F1BE6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