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99460"/>
        <c:axId val="99200677"/>
      </c:barChart>
      <c:catAx>
        <c:axId val="57799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00677"/>
        <c:crosses val="autoZero"/>
        <c:auto val="1"/>
        <c:lblAlgn val="ctr"/>
        <c:lblOffset val="100"/>
        <c:noMultiLvlLbl val="0"/>
      </c:catAx>
      <c:valAx>
        <c:axId val="99200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9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439-83B0-47F7-9D7C-84B8E5E8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148-0813-402E-9875-F0118E95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974-AEB3-485A-A9DE-ABF0F608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28B-066D-442D-BFFE-9AF4F66C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F66-6737-43B1-BFDB-1FBA46AC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A7B-400E-4031-A58B-771181A1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9F5-C821-480D-B227-B37DD986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92D-AB12-408E-909A-D9F53F98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494-E8F4-4DC5-A866-2AC113CB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8A3-7BE1-4DD7-9534-3D7CE75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5EC-47FB-4B92-AD0D-BA55CF5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062-AB50-41C4-82DD-B5F60D03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4652E-486A-43E5-B5BF-70FC1FCEAA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