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1666"/>
        <c:axId val="87665913"/>
      </c:barChart>
      <c:catAx>
        <c:axId val="52381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65913"/>
        <c:crosses val="autoZero"/>
        <c:auto val="1"/>
        <c:lblAlgn val="ctr"/>
        <c:lblOffset val="100"/>
        <c:noMultiLvlLbl val="0"/>
      </c:catAx>
      <c:valAx>
        <c:axId val="87665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1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ECB-FD5C-4694-B397-A8D8CD94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CBB-0062-4874-886E-CD32B5B3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A03-939C-49DE-86FD-3A03370F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51A-D21C-4C39-8E9C-C02E21B9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0F3-767A-4528-B97E-C02C345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D35-BF5B-4A52-8EC7-8CC4C1B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E72-4450-4922-B800-7A5A4AE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173-E159-4219-BE73-AB977E2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671-0E77-4418-9BB5-0C18C34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972-B49D-444E-885B-09CCFD3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447-D7DF-4719-8501-6AC23CA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280-248A-4ACE-A4E4-C79A6CE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DF9E4-4C7C-49C6-BC30-2BBC3D1A1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