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05362"/>
        <c:axId val="84930065"/>
      </c:barChart>
      <c:catAx>
        <c:axId val="37405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30065"/>
        <c:crosses val="autoZero"/>
        <c:auto val="1"/>
        <c:lblAlgn val="ctr"/>
        <c:lblOffset val="100"/>
        <c:noMultiLvlLbl val="0"/>
      </c:catAx>
      <c:valAx>
        <c:axId val="84930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05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B0C-574E-4926-B8BC-79BF9CEC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721-D018-4D25-9F2E-F81C34D3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47B-1069-4F63-A671-40405B41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B53-6EC3-487D-A1BD-C3A6A9E6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1E2-7EBE-4FAB-8032-E28CBD36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FAA-227D-4C93-8DB1-5364CC21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52D-4E03-4D8A-A9E7-5E705FAC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1F3-51FA-4AB5-8D2A-A0339944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77F-6291-4E4A-8727-208F4680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14C-F7F3-4EA5-88DB-04D30AE6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20C-B688-4D1D-B96E-0196E870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495-CA69-44DE-9626-197F3F4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58BFF-D78E-4BDD-9DD6-8473D6C321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