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74291"/>
        <c:axId val="87171091"/>
      </c:barChart>
      <c:catAx>
        <c:axId val="67474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71091"/>
        <c:crosses val="autoZero"/>
        <c:auto val="1"/>
        <c:lblAlgn val="ctr"/>
        <c:lblOffset val="100"/>
        <c:noMultiLvlLbl val="0"/>
      </c:catAx>
      <c:valAx>
        <c:axId val="87171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4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5EC-F3FF-4694-864A-028F9B63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628-5E61-4926-A4E8-17FBC98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D48-1790-4C16-B36E-E4B5A4DA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637-E72D-4336-8CF0-9CCE2363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E64-056C-47E3-8DA1-C87DE111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D2E-78E4-4516-8043-9EE6B52C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721-C3C4-4DC8-889E-1A4CD0D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AE0-6128-4AA8-ACDE-75180F1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082-3192-4FBA-BA0F-3F90FE83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5D8-E51D-4B2B-BC44-15FBA87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0BC-C56A-4F5E-A1F4-E2FCE01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B10-F833-415B-AA2A-DCBF5F2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008AB-32C8-4889-B729-CABCCEED4A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