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38270"/>
        <c:axId val="69274123"/>
      </c:barChart>
      <c:catAx>
        <c:axId val="35438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4123"/>
        <c:crosses val="autoZero"/>
        <c:auto val="1"/>
        <c:lblAlgn val="ctr"/>
        <c:lblOffset val="100"/>
        <c:noMultiLvlLbl val="0"/>
      </c:catAx>
      <c:valAx>
        <c:axId val="69274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8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B5E-FF3A-4244-97B7-5C64CB81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3B1-6E45-4229-8DD0-C7894A8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D89-6276-41B7-BD7E-BC371B8E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467-737C-4569-A87A-9379F426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233-04A2-42DB-936D-4DB5EADF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290-4D1F-4F00-8BAE-6517E37F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54D-E725-4421-9169-68440548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6B8-DE6B-47F1-A817-7773AB9B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A60-5620-46D2-9DF6-4C506B0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6FB-A24C-4CAF-B127-9D360DA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267-A368-41AC-BADD-0276ADC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C5F-84F6-4F3F-944C-871D72F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2D666-80B2-4A95-B76F-24113242B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