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63387"/>
        <c:axId val="527185"/>
      </c:barChart>
      <c:catAx>
        <c:axId val="73863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185"/>
        <c:crosses val="autoZero"/>
        <c:auto val="1"/>
        <c:lblAlgn val="ctr"/>
        <c:lblOffset val="100"/>
        <c:noMultiLvlLbl val="0"/>
      </c:catAx>
      <c:valAx>
        <c:axId val="527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63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220-8165-486E-AEB7-5795E243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5C9-C1A3-4356-8684-4103DD1B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844-A78B-438D-ABC8-5F4686B3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745-EC69-4828-8E8E-18AD647C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A66-CA00-49A3-A490-F811B785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8B2-B472-4EDA-A6F2-58A81BDF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3F6-35A8-4363-A3D5-0F934A76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485-34EF-43C5-AE43-C6B73A6B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FDD-2A8F-4212-88A1-155A3CCA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88F-41F9-404A-A385-69F4D456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385-9ABD-48FE-94DB-514AF83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0AB-D551-4D9F-A88E-D1C6DD0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0EC3A-2A78-4764-8778-D09EEDE9BD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