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30398"/>
        <c:axId val="23667212"/>
      </c:barChart>
      <c:catAx>
        <c:axId val="44230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67212"/>
        <c:crosses val="autoZero"/>
        <c:auto val="1"/>
        <c:lblAlgn val="ctr"/>
        <c:lblOffset val="100"/>
        <c:noMultiLvlLbl val="0"/>
      </c:catAx>
      <c:valAx>
        <c:axId val="23667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30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3AA1-17F0-48C9-B2F3-837F0FDB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C5D-A28E-41B7-892D-475FEBE3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6A9-D838-4787-AAF3-335B1C65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560-33A6-4774-BBB6-A0BFDDCB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C5B3-4AB8-48E6-90C4-7D42E55A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D9D-B150-4FDF-BC52-42994171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ADD-A7F9-4F67-B43D-71A99B87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252D-90F5-40B0-A0E6-E11CA923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D9E-6577-4B7C-880F-F6E28E20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CF5A-CB01-4F3E-8DEE-7ED67A56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C55F-9993-431C-BAFC-2FD57212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B34-DD35-46A2-B765-BD977F98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CE6A8-F8FD-4A1A-8558-5C679487EB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