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049406"/>
        <c:axId val="91143350"/>
      </c:barChart>
      <c:catAx>
        <c:axId val="430494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43350"/>
        <c:crosses val="autoZero"/>
        <c:auto val="1"/>
        <c:lblAlgn val="ctr"/>
        <c:lblOffset val="100"/>
        <c:noMultiLvlLbl val="0"/>
      </c:catAx>
      <c:valAx>
        <c:axId val="911433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494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4B4E-7BD0-4A85-A9F5-B69E192B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186-4F46-460D-ABAA-84C1AC98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F76E-D4EF-4552-8E5D-03C93144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EC6-B295-4B12-8566-E25F0CE5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E6D9-C1CD-4E1C-8A51-F0EA765A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878C-1EEF-4E91-B0B3-51AA32AA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9E12-B8DA-4693-8599-5103CF6B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42D6-697E-44A6-BFA1-B1BC5B36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21E7-60AB-411D-951B-70C99930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A72-DB5D-473F-9FC2-2E6C9E09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73B5-FE7F-440C-8584-6A0C513B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1E21-297C-43B5-AE5A-BE5FB4A7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D7D0F-7E4C-4EDE-BDC8-FB6AC84D58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