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12971"/>
        <c:axId val="74928426"/>
      </c:barChart>
      <c:catAx>
        <c:axId val="716129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28426"/>
        <c:crosses val="autoZero"/>
        <c:auto val="1"/>
        <c:lblAlgn val="ctr"/>
        <c:lblOffset val="100"/>
        <c:noMultiLvlLbl val="0"/>
      </c:catAx>
      <c:valAx>
        <c:axId val="749284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129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CEB-782D-4FE4-A9C7-51EF85AC3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6BC4-BAD5-43AD-8A94-D573062F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941B-F49B-47B7-84A1-ED49BCDAA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38AB-6D5A-494B-AC22-D3E0298E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404-3522-4F68-9126-CD3A1B874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F65-E2FF-48EE-B895-AF104AEC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2CC1-6F82-46D4-9592-6DC2C1E9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FF62-6E9D-496F-94B4-BF37559F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5C5D-54E9-4266-9E34-979497A6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2037-E702-4C2E-B38A-78399B11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1917-66ED-4380-8831-E906CBDA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EAD5-1788-4D0A-B31E-39AC71D7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1D957-DCFA-485B-B242-423AA8EFAC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