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68656"/>
        <c:axId val="11205117"/>
      </c:barChart>
      <c:catAx>
        <c:axId val="64568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05117"/>
        <c:crosses val="autoZero"/>
        <c:auto val="1"/>
        <c:lblAlgn val="ctr"/>
        <c:lblOffset val="100"/>
        <c:noMultiLvlLbl val="0"/>
      </c:catAx>
      <c:valAx>
        <c:axId val="11205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68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D18-E6EA-4A1C-88D5-4E676C6D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0EE-C9B3-4808-B065-CD82A568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EEDC-522B-4FE4-9346-87779DD2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F84-BC28-4CDF-8E98-4EC9A4E3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4A8-28A6-41F8-A1C2-5BB17354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16D-7972-4318-99AD-DE468A97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C7F-0524-471A-AA26-61DF2DC4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B4A5-6F75-4A70-BBFD-CB1CA1D4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EF6E-9FC4-442E-B634-7ACD43FC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F7D-514C-42D8-8B37-FBB71244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7FA-5E73-4D6B-849B-B136269A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D65-1570-4ED4-A300-837129C3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929B0-1064-4E36-A1DB-D4FB1DE73B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