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04947"/>
        <c:axId val="93785668"/>
      </c:barChart>
      <c:catAx>
        <c:axId val="68704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85668"/>
        <c:crosses val="autoZero"/>
        <c:auto val="1"/>
        <c:lblAlgn val="ctr"/>
        <c:lblOffset val="100"/>
        <c:noMultiLvlLbl val="0"/>
      </c:catAx>
      <c:valAx>
        <c:axId val="93785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04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6C6-2E17-4FE0-8C82-8DB3ECDB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9BC-FAAD-49BA-BC6F-7CC83F7E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230-344B-4002-B522-97D02D91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057-CA0F-4EEB-9C70-5512D9AD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1B2-2824-4827-A697-65151185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78D-6D47-495A-A2FF-D10338F5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DD5-936D-47A0-B9AC-CBA00722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98D-DE6E-46A5-BB53-E7820963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D8D-CC35-430E-BB67-A1D4111C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193-54D9-42D9-8BFD-A1E553A3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E20-ADC0-4949-B41B-35953C5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8F9-79A7-4E88-982A-5E7BB360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A66CA-7464-455D-83A0-4E6031CEFC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