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457530"/>
        <c:axId val="8341327"/>
      </c:barChart>
      <c:catAx>
        <c:axId val="194575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1327"/>
        <c:crosses val="autoZero"/>
        <c:auto val="1"/>
        <c:lblAlgn val="ctr"/>
        <c:lblOffset val="100"/>
        <c:noMultiLvlLbl val="0"/>
      </c:catAx>
      <c:valAx>
        <c:axId val="83413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575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F7EE-6BCC-498A-B6AB-21C6B0EA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0D5A-2DA6-497B-AA02-5A29D8B4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ABCB-99BC-44AB-AD31-07D01E8F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CDA9-44C0-45B5-9FDB-F1412D81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5664-DA56-4521-9B3C-9696C854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422-43B8-4CA6-AFC4-E34BE9CD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927B-086C-41D0-BD41-06FB3488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D13E-FE1B-4931-82D3-B022610E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6F4D-4454-4E33-B057-F2DCF5DA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9268-9882-40AA-9941-B3E96752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74A5-8B01-4D25-8891-0BA6CEF0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40CD-82C2-48BE-B462-2419AC72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8BA77-4E1E-4604-A270-0AAE408E5F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