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38245"/>
        <c:axId val="79164800"/>
      </c:barChart>
      <c:catAx>
        <c:axId val="89038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64800"/>
        <c:crosses val="autoZero"/>
        <c:auto val="1"/>
        <c:lblAlgn val="ctr"/>
        <c:lblOffset val="100"/>
        <c:noMultiLvlLbl val="0"/>
      </c:catAx>
      <c:valAx>
        <c:axId val="791648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38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FE13-D685-47AA-9FC0-FDBEA8C7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422A-9440-4B43-841A-A3CAFE04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0CF-7E3C-444F-BC96-99FD783F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925-D936-498E-BCB4-719621F7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3E9-551F-44F4-A829-D5B83E94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95E-B4D6-41F4-A54F-A9EB7DCC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903A-16DD-4563-880E-6B8381E1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FE0F-8659-4D73-A81E-CED43B65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86B1-C15A-465C-BEAC-093E153A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2318-E66D-473D-A7FE-1A0E6696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72ED-3FDF-4849-B495-D51F0E49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0C1D-30D0-4522-9628-3B1C2E7B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A19DE-1A67-4DAA-8FEF-69B01D9282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